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C08-DE3E-4386-8819-2F51FDBC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C55-70FF-4260-B3B4-EA9D69D3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F05-D37A-4AE9-81CD-F0870995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AB8-7862-4E7B-A250-7C4349EF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CAA0-ACEA-4DD5-840F-D23ACDE4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3EA9-661E-4AF6-BB98-A662E477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3FB7-3982-421D-A8C0-EE5AD925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503B-904A-4AE0-9261-2F6D0A65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FBEB-48E7-4E15-B78B-BDB37375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E211-F2C3-4625-BD1A-9775B193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DE27-72C7-44A8-AB36-DED27C2C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24E-4984-455F-8FF8-4A07054E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FE86-32B4-4FC9-A83D-D5788FC4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8CA9-1290-431A-BD1E-3AA26930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CA8D-A56A-43DB-AEE5-18647B69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DF24-07F2-488A-BF1B-B244437D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2793-A296-4866-BDE3-C4748A3E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02C-79B5-4374-8710-A99E9518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8CC-7ED0-403F-A5C8-8B081A9A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8BB-D57D-4E60-8039-E10437F7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EA3-913F-4112-B4BD-CAB006C4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875-728D-4337-B424-0444C0ED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499-991B-439D-B26C-1BEA5BA8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386-4F85-4BC9-8BDD-537174A3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17B4-5CEC-4C6A-9BDF-512DB02E16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8DF7-6CE8-42C1-98C3-E6CB718EBE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2590920"/>
            <a:ext cx="6782040" cy="330156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Форматирование доку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Форматирование симво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Форматирование абзац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Нумерованные и маркированные спи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Стили формат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Оглавление доку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9D3B-49CE-430F-A263-424F25BF12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90720" y="533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Нумерованные и маркированные спи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1905120"/>
            <a:ext cx="3733920" cy="366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Списки</a:t>
            </a:r>
            <a:r>
              <a:rPr b="0" lang="ru-RU" sz="2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ются удобным вариантом форматирования абзацев по единому образцу и применяются для размещения в документе различных перечн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нумерованных списка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элементы списка последовательно обозначаются с помощью чисел (арабских или римских) и букв (русского или латинского алфавитов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733920" cy="327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A19-A364-47E0-9D92-DAFF5B1EB6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19320" y="304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аркированных списках элементы списка обозначаются с помощью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маркер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пециальных значков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76720" y="4419720"/>
            <a:ext cx="3733560" cy="2135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43000" y="1981080"/>
            <a:ext cx="75438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кне «изменение маркированного списка» выбрать пункт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рк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, который позволит выбрать понравившийся символ в качестве маркера списка. Для этого необходимо выбрать один из шрифтов, наприме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ding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nding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или любой другой, содержащий спецсимволы. При этом список будет маркирован выбранными вами символ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ADC-224C-4DEA-B34E-3FCB72E403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057400"/>
            <a:ext cx="731520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Многоуровневые спис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жно использовать для отображения иерархических переч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ногоуровневых списках в пункты списка более высокого уровня вставляются списки более низкого уровня (вложенные списки). Тип вложенного списка может совпадать с типом основного списка, но может отличатся от не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096-EFF9-4056-9592-B9093D3C03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Стили формат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1981080"/>
            <a:ext cx="769608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Стиль форма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задание своих параметров форматирования  абзаца, символов и спис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ому стилю форматирования присваивается название и устанавливаются все необходимые параметры, затем его применяют к выделенному фрагменту документа и все абзацы выделенного документа  автоматически получают параметры форматир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64E-F169-490D-A3A5-A572A856F9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главление докум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1905120"/>
            <a:ext cx="7467480" cy="37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е создания документа в нем создаются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заголов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Чтобы заголовки отличались по внешнему виду друг от друга и от текста используют различные стили форматир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создания объемного документа целесообразно вставлять в документ 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оглавл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ое позволяет лучше ориентироваться в содержании докуме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Оглавл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яет собой список заголовков, содержащихся в документе, с указанием страни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AF5-7E6A-4872-8009-80B85E8034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19320" y="1981080"/>
            <a:ext cx="7543800" cy="35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лавление документа является многоуровневым списком, в котором заголовки размещаются на соответствующих уровнях спис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необходимости можно повышать или понижать уровень заголовков, тем самым перестраивая оглавление. Внешний вид оглавления можно настраивать, задавая индивидуальные параметры форматирования шрифта и абзаца для каждого уровня огл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E92-3772-4A33-A41D-F8BEDF3E8E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71600" y="533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Табл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1981080"/>
            <a:ext cx="701028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ицы используются при создании текстовых документов, содержащих большое количество однотипных названий, числовых данных или изображений с текстовой подпис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ицы состоят из строк и столбцов, на пересечении которых образуются ячей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EBD-59AB-4ED8-AEAD-C181BC717B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19320" y="1905120"/>
            <a:ext cx="7543800" cy="37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Параметры таблицы можно модернизирова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тавлять или удалять строки, столбцы и ячей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ять ширину столбцов и высоту строк с помощью мыши или заданием их точных значений в сантиметрах или процента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ять размеры отдельных ячеек, разделять их на несколько ячеек или объединять с соседними ячей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5FB-AC2F-4054-90AF-664BED1A02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2133720"/>
            <a:ext cx="731520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подобрать внешний вид таблицы, изменив тип, ширину и цвет границ ячеек, а также цвет фона яче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ить внешний вид таблицы можно автоматически, используя готовые форматы или настроить вручну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582-A645-4132-B9C0-A963B3BC6D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685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Гипертек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1905120"/>
            <a:ext cx="7543800" cy="451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тображения в тексте смысловых связей между основными разделами или понятиями используют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гипертек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пертекст позволяет структурировать документ путем выделения в нем слов – ссылок –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гиперссыл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перссылка состоит из двух част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указателя ссыл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адресной части ссыл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ная часть гиперссылки представляет собой 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название заклад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документе, на который указывает ссыл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475-ECCF-4292-A517-002B594F18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15228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6633"/>
                </a:solidFill>
                <a:latin typeface="Times New Roman"/>
              </a:rPr>
              <a:t>Форматирование текс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роцесс оформления страницы, абзаца, строки, символа, т.е.установка основных параметров, определяющих их внешний вид (шрифт, размер, начертание, цве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133720"/>
            <a:ext cx="7467480" cy="119124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Шриф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полный набор символов (букв, цифр, знаков пунктуации, математических знаков, а также специальных символов) определенного рису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371600" y="3733920"/>
            <a:ext cx="7238880" cy="2438280"/>
            <a:chOff x="1371600" y="3733920"/>
            <a:chExt cx="7238880" cy="2438280"/>
          </a:xfrm>
        </p:grpSpPr>
        <p:sp>
          <p:nvSpPr>
            <p:cNvPr id="151" name=""/>
            <p:cNvSpPr/>
            <p:nvPr/>
          </p:nvSpPr>
          <p:spPr>
            <a:xfrm>
              <a:off x="3970440" y="3733920"/>
              <a:ext cx="2041560" cy="1137960"/>
            </a:xfrm>
            <a:prstGeom prst="rect">
              <a:avLst/>
            </a:prstGeom>
            <a:solidFill>
              <a:srgbClr val="b389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Способ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редставления шрифтов 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компьютер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71600" y="5033880"/>
              <a:ext cx="3156120" cy="1138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Растровые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MS Sans Serif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асштабирование с опред.коэффициенто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54720" y="5033880"/>
              <a:ext cx="3155760" cy="1138320"/>
            </a:xfrm>
            <a:prstGeom prst="rect">
              <a:avLst/>
            </a:prstGeom>
            <a:solidFill>
              <a:srgbClr val="9d9c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Векторные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асштабирование произволь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855880" y="4221000"/>
              <a:ext cx="1114560" cy="81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2000" y="4221000"/>
              <a:ext cx="928440" cy="81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591-F931-4F59-9B66-F0427885D0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43000" y="1981080"/>
            <a:ext cx="762012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Заклад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элемент документа, которому присвоено уникальное имя. Закладки размещаются на тех страницах документа, куда должны осуществляться переходы по гиперссыл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перссылки могут указывать на закладки, размещенные не только в том же документе, но и в других докумен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7CD-7755-4889-AAF9-E8DC3FDED6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1981080"/>
            <a:ext cx="76960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гипертекста, распространенная 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траницы в Интернете, формирует Всемирную паутину, связывающую миллиарды документов на сотнях миллионов компьютеров в единое информационное простран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28E0-55CF-402F-95D2-B1EFFAB8BA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1981080"/>
            <a:ext cx="6629400" cy="305028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гое деление шриф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9966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 засечк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imes New Rom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9966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рубле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Моношир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шрифты – ширина всех символов одинакова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B4C-63A2-4DCE-B1BF-5F32C308B0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2057400"/>
            <a:ext cx="7238880" cy="4064760"/>
          </a:xfrm>
          <a:prstGeom prst="rect">
            <a:avLst/>
          </a:prstGeom>
          <a:solidFill>
            <a:srgbClr val="ffffff"/>
          </a:solidFill>
          <a:ln w="381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Размер шриф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ицей измерения размеров шрифта является </a:t>
            </a:r>
            <a:r>
              <a:rPr b="0" i="1" lang="ru-RU" sz="2400" spc="-1" strike="noStrike">
                <a:solidFill>
                  <a:srgbClr val="996633"/>
                </a:solidFill>
                <a:latin typeface="Times New Roman"/>
              </a:rPr>
              <a:t>пунк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d9c81"/>
                </a:solidFill>
                <a:latin typeface="Times New Roman"/>
              </a:rPr>
              <a:t>1 пт =0,376 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ы шрифтов можно изменять в пределах от 1 до 1638 пун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d9c81"/>
                </a:solidFill>
                <a:latin typeface="Times New Roman"/>
              </a:rPr>
              <a:t>Шрифт размером 36 п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d9c81"/>
                </a:solidFill>
                <a:latin typeface="Times New Roman"/>
              </a:rPr>
              <a:t>Шрифт размером 24 п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d9c81"/>
                </a:solidFill>
                <a:latin typeface="Times New Roman"/>
              </a:rPr>
              <a:t>Шрифт размером 16 п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267080" y="1981080"/>
          <a:ext cx="403884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0388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81D-71D8-42AC-822D-A29D53DE52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4572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Дополнительные параметры форматирования симво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981080"/>
            <a:ext cx="7619760" cy="3990960"/>
          </a:xfrm>
          <a:prstGeom prst="rect">
            <a:avLst/>
          </a:prstGeom>
          <a:solidFill>
            <a:srgbClr val="ffffff"/>
          </a:solidFill>
          <a:ln cap="rnd" w="38160">
            <a:solidFill>
              <a:srgbClr val="9966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Начерта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ычное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жир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рсив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ужирное курсив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Тип линии подчерки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плош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унктирная волнист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ид символ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верхний индек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нижний индек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дчеркнут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Расстояние между символам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 а з р я ж е н н ы 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лотне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Цвет символ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цвет выбирается из предлагаемой текстовым редактором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л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                                                                                                                 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086600" y="2438280"/>
          <a:ext cx="158580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438280"/>
                    <a:ext cx="15858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 rot="10800000">
          <a:off x="8077320" y="5638680"/>
          <a:ext cx="6858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0800000">
                    <a:off x="8077320" y="5638680"/>
                    <a:ext cx="685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4F6-48F3-4931-BEB6-0CA38A35D0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66680" y="228600"/>
            <a:ext cx="78487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Форматирование абзац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d9c81"/>
                </a:solidFill>
                <a:latin typeface="Times New Roman"/>
              </a:rPr>
              <a:t>1.Формат -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d9c81"/>
                </a:solidFill>
                <a:latin typeface="Times New Roman"/>
              </a:rPr>
              <a:t>2.Вид -Панели инструментов - «Форматировани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1981080"/>
            <a:ext cx="7467480" cy="303516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Абзац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часть текста, представляющая собой законченный по смыслу фрагмент документа, окончание которого служит естественной паузой для перехода к новой мыс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од конца абзаца обеспечивается нажатием клавиши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{Enter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отображается символом 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D86-1CDA-41D1-B0DD-E756F17BDA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33720" y="457200"/>
            <a:ext cx="5257800" cy="602172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ыравнивание абзаце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левому кра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цент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авому кра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шир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Отступ первой (красной) стро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е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ицате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ле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029200" y="1752480"/>
          <a:ext cx="1828800" cy="5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752480"/>
                    <a:ext cx="18288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CFE-2879-4DC3-963D-CDA1827AE6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676520" y="1066680"/>
            <a:ext cx="7010280" cy="489420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есь абзац может иметь следующие отсту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 между строками можно менять задавая различные значения 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межстрочных интервал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одинарны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двойной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визуального отделения абзацев друг от друга можно устанавливать увеличенные интервалы 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посл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бза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724280" y="1828800"/>
          <a:ext cx="106704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828800"/>
                    <a:ext cx="1067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800-B7B7-486F-B1C0-BA44EFD76F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00200" y="2286000"/>
            <a:ext cx="6705720" cy="2494080"/>
          </a:xfrm>
          <a:prstGeom prst="rect">
            <a:avLst/>
          </a:prstGeom>
          <a:solidFill>
            <a:srgbClr val="9d9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читайте, сколько мм в 14 пункт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ва величина буквы, имеющая размер 1638 пунктов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F3D-2D4A-4BE2-8191-97A2232C95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6:22:04Z</dcterms:created>
  <dc:creator>класс</dc:creator>
  <dc:description/>
  <dc:language>en-US</dc:language>
  <cp:lastModifiedBy>pozitronica</cp:lastModifiedBy>
  <dcterms:modified xsi:type="dcterms:W3CDTF">2007-12-16T02:18:30Z</dcterms:modified>
  <cp:revision>40</cp:revision>
  <dc:subject/>
  <dc:title>Презентация PowerPoint</dc:title>
</cp:coreProperties>
</file>